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44EA-3962-49CD-B02C-0274CD2124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83C-E6F0-404F-B1FA-D0D99E55A5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DE0-ECE9-4DC1-B1E5-73104AF1CB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93E1-D9EF-4A6B-A9CD-2BCF3B115D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BAD-5E4A-415D-B764-C62400C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154-79DE-4C1C-B283-C5BB01C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2F2-CFDF-4FD8-B259-0DCA299F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65B-9129-4B43-BC5B-058D4A5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8FF-42A3-4CAE-941F-B4DDD0D3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2ED-BF8F-422B-87FB-BB5D816B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ED7-4A3F-4FDE-A6D7-8C71793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773-879E-4C3D-8806-75D24A8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55B-4EE5-4533-98D9-671E265E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FA0-12A8-4EC5-B978-F620A4E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4AE-77C0-47F0-96DE-66CC1E8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54A-8273-4D38-AD03-6D5350E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51BD-515D-4102-A27D-46D4A91E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9960" y="1842840"/>
            <a:ext cx="7238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58920" y="2813040"/>
            <a:ext cx="6649920" cy="39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827440" y="3344760"/>
            <a:ext cx="35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anuel Mendoza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989440" y="3733920"/>
            <a:ext cx="3174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Departamento de 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nstituto Tecnológico Autónomo de Mé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81160" y="5867280"/>
            <a:ext cx="67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Escuela de Verano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entro de Estadística Aplicada a Estudios Socioeconómicos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edellín, Colombia. Diciembre 5-7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049800" cy="1990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4303800" cy="3205080"/>
          </a:xfrm>
          <a:prstGeom prst="rect">
            <a:avLst/>
          </a:prstGeom>
          <a:ln w="1908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97000" y="1600200"/>
            <a:ext cx="6777000" cy="362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692280"/>
            <a:ext cx="3962520" cy="5331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960" y="2278080"/>
            <a:ext cx="7238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</a:rPr>
              <a:t>Inferencias sobre Co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236760"/>
            <a:ext cx="6649920" cy="3996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070680" cy="4028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79"/>
          <a:stretch/>
        </p:blipFill>
        <p:spPr>
          <a:xfrm>
            <a:off x="1763640" y="1916280"/>
            <a:ext cx="5973840" cy="40575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27800" cy="252864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007320" cy="1655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0520" y="4076640"/>
            <a:ext cx="6092640" cy="13129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973840" cy="1033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77960" y="3573360"/>
            <a:ext cx="5967360" cy="1454400"/>
          </a:xfrm>
          <a:prstGeom prst="rect">
            <a:avLst/>
          </a:prstGeom>
          <a:ln w="1908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240600" cy="21175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cientes en re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240600" cy="4287960"/>
          </a:xfrm>
          <a:prstGeom prst="rect">
            <a:avLst/>
          </a:prstGeom>
          <a:ln w="1908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7:34Z</dcterms:created>
  <dc:creator>ITAM</dc:creator>
  <dc:description/>
  <dc:language>en-US</dc:language>
  <cp:lastModifiedBy>mmendozar</cp:lastModifiedBy>
  <dcterms:modified xsi:type="dcterms:W3CDTF">2011-12-04T01:31:11Z</dcterms:modified>
  <cp:revision>989</cp:revision>
  <dc:subject/>
  <dc:title>Análisis de Solvencia.  La perspectiva Estadística</dc:title>
</cp:coreProperties>
</file>