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wmf" ContentType="image/x-wmf"/>
  <Override PartName="/ppt/media/image41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57A-F1BA-4EC6-9887-50EF8843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DDA-AA50-460C-8144-1E33224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625-5E4B-4E23-A9D2-790C2D31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963-B9EC-4532-9B6F-E7CDC336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E07-65FF-4876-B6A7-6964FB1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2AF-7BBA-45C3-9FC4-EB8CE51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E82-0B0D-4BB2-B76C-395A467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D4A-6434-4862-8CCF-9719C94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A4A-14FA-4D6F-B53D-FED8C5F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0F0-6022-4559-AD5E-F54925D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1ED-5349-4811-8289-416C863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001-0C6D-4F43-AE47-632C21E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9FF-BBA6-4792-8550-B17D82E2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960" y="1842840"/>
            <a:ext cx="7238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258920" y="2813040"/>
            <a:ext cx="6649920" cy="39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827440" y="3344760"/>
            <a:ext cx="35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anuel Mendoza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989440" y="3733920"/>
            <a:ext cx="3174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Departamento de 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nstituto Tecnológico Autónomo de Mé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81160" y="5867280"/>
            <a:ext cx="67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Escuela de Verano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entro de Estadística Aplicada a Estudios Socioeconómicos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edellín, Colombia. Diciembre 5-7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92160" y="1816200"/>
            <a:ext cx="5348520" cy="322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17720" y="1841400"/>
            <a:ext cx="5272200" cy="31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7720" y="1854360"/>
            <a:ext cx="5273640" cy="31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43280" y="1841400"/>
            <a:ext cx="5254560" cy="31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35000" y="1854360"/>
            <a:ext cx="5266080" cy="3182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35000" y="1833480"/>
            <a:ext cx="5266080" cy="3183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40040" y="1814400"/>
            <a:ext cx="5273640" cy="3189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15000" y="5268960"/>
            <a:ext cx="2376720" cy="143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37000" y="1512720"/>
            <a:ext cx="3870000" cy="3832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19520" y="3213000"/>
            <a:ext cx="304776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019240"/>
            <a:ext cx="13716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637000" y="2146320"/>
            <a:ext cx="3870000" cy="2563920"/>
            <a:chOff x="2637000" y="2146320"/>
            <a:chExt cx="3870000" cy="25639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637000" y="2146320"/>
              <a:ext cx="387000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029200" y="3809880"/>
              <a:ext cx="685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219320" y="914400"/>
            <a:ext cx="632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562720" y="457200"/>
            <a:ext cx="2705040" cy="1792440"/>
            <a:chOff x="5562720" y="457200"/>
            <a:chExt cx="2705040" cy="17924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562720" y="457200"/>
              <a:ext cx="270504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234560" y="1620000"/>
              <a:ext cx="47916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2819520"/>
            <a:ext cx="63248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= 1 624,   P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= 0.258,  X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= 6 298        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Y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=  P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X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500280"/>
            <a:ext cx="63248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= 1 693,  P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= 0.265,   X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= 6 386        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Y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=  P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X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4076640"/>
            <a:ext cx="6324840" cy="1092240"/>
            <a:chOff x="1547640" y="4076640"/>
            <a:chExt cx="6324840" cy="10922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6246720" y="4102200"/>
                  <a:ext cx="1041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2" name=""/>
            <p:cNvGrpSpPr/>
            <p:nvPr/>
          </p:nvGrpSpPr>
          <p:grpSpPr>
            <a:xfrm>
              <a:off x="1547640" y="4076640"/>
              <a:ext cx="6324840" cy="425880"/>
              <a:chOff x="1547640" y="4076640"/>
              <a:chExt cx="6324840" cy="425880"/>
            </a:xfrm>
          </p:grpSpPr>
          <p:sp>
            <p:nvSpPr>
              <p:cNvPr id="93" name=""/>
              <p:cNvSpPr/>
              <p:nvPr/>
            </p:nvSpPr>
            <p:spPr>
              <a:xfrm>
                <a:off x="1547640" y="4076640"/>
                <a:ext cx="6324840" cy="4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7280" indent="-287280">
                  <a:lnSpc>
                    <a:spcPct val="120000"/>
                  </a:lnSpc>
                  <a:spcBef>
                    <a:spcPts val="1001"/>
                  </a:spcBef>
                  <a:spcAft>
                    <a:spcPts val="99"/>
                  </a:spcAft>
                  <a:buClr>
                    <a:srgbClr val="cccc00"/>
                  </a:buClr>
                  <a:buFont typeface="Marlett" charset="2"/>
                  <a:buChar char="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 baseline="-25000">
                    <a:solidFill>
                      <a:srgbClr val="ffffff"/>
                    </a:solidFill>
                    <a:latin typeface="Arial"/>
                  </a:rPr>
                  <a:t>                                                                                                   </a:t>
                </a:r>
                <a:r>
                  <a:rPr b="0" lang="en-GB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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1928880" y="4084560"/>
                    <a:ext cx="2340000" cy="387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660,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238800" y="4808520"/>
                  <a:ext cx="11350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5943600" y="4648320"/>
            <a:ext cx="1752480" cy="6858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Idea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9960" y="2278080"/>
            <a:ext cx="7238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Pr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sticos para series con </a:t>
            </a:r>
            <a:br>
              <a:rPr sz="2800"/>
            </a:b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stacionalidad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3236760"/>
            <a:ext cx="6649920" cy="3996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29080" y="2895480"/>
            <a:ext cx="3870000" cy="256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9760" y="1600200"/>
            <a:ext cx="293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1001"/>
              </a:spcBef>
              <a:spcAft>
                <a:spcPts val="99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edia Arit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ica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72000" y="1676520"/>
                <a:ext cx="15588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409760" y="5786280"/>
            <a:ext cx="6210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tras posibilidades: Media Geométrica, Media Ponderada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odelo Disc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905120"/>
            <a:ext cx="6324840" cy="12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valores anuales observ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acumulaciones parciales observ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cumulac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 parcial a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 sigu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071960"/>
            <a:ext cx="632484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ndependencia con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Bin (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;  i =1,…, T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6400" y="3429000"/>
            <a:ext cx="2819520" cy="384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bjetivo : Pronosticar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4680" y="1828800"/>
            <a:ext cx="5371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es el número total de turistas en el año 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(el par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ámetro N de la Binomi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4680" y="4464000"/>
            <a:ext cx="567684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stacionalidad esta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:    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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ar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=1,…, T+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Bin (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;  i =1,…, T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4680" y="2637000"/>
            <a:ext cx="5371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1001"/>
              </a:spcBef>
              <a:spcAft>
                <a:spcPts val="99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es la proporción </a:t>
            </a:r>
            <a:r>
              <a:rPr b="0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sperada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e turistas, en el año i, que llegan de Enero hasta Marz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433760"/>
            <a:ext cx="4980240" cy="4572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3459240"/>
            <a:ext cx="53719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es el número de turistas que realmente llegan, en el año i, entre Enero y Mar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14680" y="144792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9240" y="2971800"/>
            <a:ext cx="5524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 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  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 ) d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2063880"/>
            <a:ext cx="57369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roducir inferencias sobre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, el parámetro de una distribución Binom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4680" y="37908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e Alba &amp; Mendoza (1996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19240" y="4346640"/>
            <a:ext cx="5524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(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/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;  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(0,1)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19240" y="4871880"/>
            <a:ext cx="55245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Beta(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½, ½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9240" y="2438280"/>
            <a:ext cx="4076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Beta-Binomial Neg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4680" y="1758960"/>
            <a:ext cx="53719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istribución final marginal para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917800" y="3102120"/>
                <a:ext cx="3011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-</m:t>
                    </m:r>
                    <m:r>
                      <m:rPr>
                        <m:lit/>
                        <m:nor/>
                      </m:rPr>
                      <m:t xml:space="preserve">1/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698480" y="4038480"/>
            <a:ext cx="2895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érdida cuadrática   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27520" y="4038480"/>
                <a:ext cx="1255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b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2590920" y="4648320"/>
            <a:ext cx="4509720" cy="1134360"/>
            <a:chOff x="2590920" y="4648320"/>
            <a:chExt cx="4509720" cy="1134360"/>
          </a:xfrm>
        </p:grpSpPr>
        <p:grpSp>
          <p:nvGrpSpPr>
            <p:cNvPr id="124" name=""/>
            <p:cNvGrpSpPr/>
            <p:nvPr/>
          </p:nvGrpSpPr>
          <p:grpSpPr>
            <a:xfrm>
              <a:off x="2590920" y="4648320"/>
              <a:ext cx="4509720" cy="1081080"/>
              <a:chOff x="2590920" y="4648320"/>
              <a:chExt cx="450972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2590920" y="4648320"/>
                    <a:ext cx="173484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≈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 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</m:e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4834080" y="4816440"/>
                    <a:ext cx="2266560" cy="51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;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4972680" y="5486400"/>
              <a:ext cx="1824120" cy="296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Media Ponde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43000" y="1541520"/>
            <a:ext cx="5085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1985" t="8092" r="14648" b="5394"/>
          <a:stretch/>
        </p:blipFill>
        <p:spPr>
          <a:xfrm>
            <a:off x="2038320" y="1969920"/>
            <a:ext cx="5035680" cy="2932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nósticos puntuales e intervalos 0.95 probabilida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24200" y="1471680"/>
            <a:ext cx="52956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odelo Continu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05120"/>
            <a:ext cx="632484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valores anuales observ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acumulaciones parciales observ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1001"/>
              </a:spcBef>
              <a:spcAft>
                <a:spcPts val="99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cumulac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 parcial a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 siguiente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071960"/>
            <a:ext cx="632484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ndependencia con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=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;   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v.a. indeps.  en (0,1)  i =1,…, T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46400" y="3429000"/>
            <a:ext cx="2819520" cy="384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bjetivo : Pronosticar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14680" y="1600200"/>
            <a:ext cx="5371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es el valor acumulado total de la variable de interés en el año i  (es un par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ámetro: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14680" y="3481560"/>
            <a:ext cx="567684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stacionalidad esta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(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) = P(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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ar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=1,…, T+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istribu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s-MX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14680" y="2368440"/>
            <a:ext cx="55242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es la proporción</a:t>
            </a:r>
            <a:r>
              <a:rPr b="0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e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, acumulada en el subintervalo observ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451320"/>
            <a:ext cx="3364200" cy="4572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052640"/>
            <a:ext cx="3962160" cy="53316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971800"/>
            <a:ext cx="4191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ores acumu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499"/>
              </a:spcBef>
              <a:spcAft>
                <a:spcPts val="51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ies co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14680" y="144792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240" y="2971800"/>
            <a:ext cx="5524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 (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  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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 ) d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14680" y="2063880"/>
            <a:ext cx="5371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roducir inferencias sobre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, parámetro de una distribución Pareto inver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14680" y="37908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e Alba &amp; Mendoza (2001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32000" y="4581360"/>
                <a:ext cx="27925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;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1758960"/>
            <a:ext cx="53719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istribución final marginal para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11400" y="2470320"/>
                <a:ext cx="39733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751040" y="3276720"/>
            <a:ext cx="5029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s propia con densidad monótona decre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1040" y="365760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 tiene mo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1040" y="403848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uantiles explíc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08240" y="4659480"/>
            <a:ext cx="4976280" cy="1193760"/>
            <a:chOff x="2208240" y="4659480"/>
            <a:chExt cx="4976280" cy="11937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2208240" y="4659480"/>
                  <a:ext cx="341244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T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;     0</m:t>
                      </m:r>
                      <m:r>
                        <m:t xml:space="preserve">&lt;</m:t>
                      </m:r>
                      <m:r>
                        <m:t xml:space="preserve">q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3780720" y="5257800"/>
                  <a:ext cx="12308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∏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5153400" y="5486400"/>
              <a:ext cx="2031120" cy="296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Media Geomét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600960" y="2397240"/>
                <a:ext cx="1036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1758960"/>
            <a:ext cx="5371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 =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568600" y="2463840"/>
                <a:ext cx="34624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828800" y="312408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uanti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67080" y="3745080"/>
                <a:ext cx="301140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rPr>
                        <m:lit/>
                        <m:nor/>
                      </m:rPr>
                      <m:t xml:space="preserve">  ;     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"/>
          <p:cNvGrpSpPr/>
          <p:nvPr/>
        </p:nvGrpSpPr>
        <p:grpSpPr>
          <a:xfrm>
            <a:off x="4597560" y="5348160"/>
            <a:ext cx="3026880" cy="595440"/>
            <a:chOff x="4597560" y="5348160"/>
            <a:chExt cx="3026880" cy="59544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4597560" y="5348160"/>
                  <a:ext cx="109332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∏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5891400" y="5576760"/>
              <a:ext cx="1733040" cy="296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Media Geomét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828800" y="426708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érdida lineal simétrica  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q = 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151080" y="4786200"/>
                <a:ext cx="1781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1849320"/>
            <a:ext cx="4559400" cy="3102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jemplo. Consumo mensual promedio de electr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54320" y="1944720"/>
            <a:ext cx="4657680" cy="299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atos 1976, 1977, 1978 (T = 2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03760" cy="3376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trón de acumul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27120" y="1538280"/>
            <a:ext cx="42897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27120" y="1530360"/>
            <a:ext cx="42897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odelo Continuo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905120"/>
            <a:ext cx="6324840" cy="12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valores anuales observ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acumulaciones parciales observ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cumulac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 parcial a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 sigu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071960"/>
            <a:ext cx="632484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ndependencia con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…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=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( 1 +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);   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v.a. indps. en (0,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 i =1,…, T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46400" y="3429000"/>
            <a:ext cx="2819520" cy="384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Objetivo : Pronosticar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14680" y="1733400"/>
            <a:ext cx="5676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hora,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es un par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ámetro en el modelo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3828960"/>
            <a:ext cx="567684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Estacionalidad esta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(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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) = P(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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ar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=1,…, T+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istribu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( 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) = Lognormal ( W |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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) ;   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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= (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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2368440"/>
            <a:ext cx="552132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describe la proporción que guarda la fracción no observada (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–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) respecto a la fracción observada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= (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–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) / 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3809880"/>
            <a:ext cx="3363840" cy="4572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819520" y="2209680"/>
            <a:ext cx="3533760" cy="1895760"/>
            <a:chOff x="2819520" y="2209680"/>
            <a:chExt cx="3533760" cy="18957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819520" y="2209680"/>
              <a:ext cx="353376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29200" y="3657600"/>
              <a:ext cx="609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14680" y="144792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14680" y="2063880"/>
            <a:ext cx="55242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ronosticar la variable aleatoria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, cuya distribución es una transformación lineal de una Lognorm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410544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endoza &amp; De Alba (2006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365200" y="4826160"/>
                <a:ext cx="429444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kτ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Gamma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μ</m:t>
                    </m:r>
                    <m:r>
                      <m:t xml:space="preserve">∈</m:t>
                    </m:r>
                    <m:r>
                      <m:t xml:space="preserve">ℜ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81360" y="3124080"/>
                <a:ext cx="5002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(</m:t>
                        </m:r>
                      </m:e>
                    </m:nary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μd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14680" y="1758960"/>
            <a:ext cx="53719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Distribución final  </a:t>
            </a:r>
            <a:r>
              <a:rPr b="0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redictiva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para X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, dado Y</a:t>
            </a:r>
            <a:r>
              <a:rPr b="0" lang="es-MX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+1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38240" y="2438280"/>
                <a:ext cx="3789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studen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133720" y="365760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 tiene mo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038480"/>
            <a:ext cx="4495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uantiles explíc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46320" y="4708440"/>
                <a:ext cx="3871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a*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    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05120" y="2911320"/>
                <a:ext cx="20541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14680" y="1758960"/>
            <a:ext cx="5371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Límite (distribución inicial de referencia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32120" y="3360600"/>
                <a:ext cx="37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studen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,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17880" y="2455920"/>
                <a:ext cx="22780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;    </m:t>
                    </m:r>
                    <m:r>
                      <m:t xml:space="preserve">μ</m:t>
                    </m:r>
                    <m:r>
                      <m:t xml:space="preserve">∈</m:t>
                    </m:r>
                    <m:r>
                      <m:t xml:space="preserve">ℜ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τ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133720" y="2819520"/>
            <a:ext cx="609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81160" y="4213080"/>
            <a:ext cx="4325760" cy="1239840"/>
            <a:chOff x="2081160" y="4213080"/>
            <a:chExt cx="4325760" cy="123984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081160" y="4216320"/>
                  <a:ext cx="2334600" cy="12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(</m:t>
                              </m:r>
                              <m:nary>
                                <m:naryPr>
                                  <m:chr m:val="∏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T</m:t>
                                          </m:r>
                                        </m:den>
                                      </m:f>
                                    </m:sup>
                                  </m:sSup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4773600" y="4213080"/>
                  <a:ext cx="163332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ltad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4680" y="1758960"/>
            <a:ext cx="5371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érdida lineal simétrica     </a:t>
            </a:r>
            <a:r>
              <a:rPr b="0" lang="es-MX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  q = 1/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36800" y="2484360"/>
                <a:ext cx="25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/2 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06920" y="3367080"/>
                <a:ext cx="792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336840" y="4038480"/>
                <a:ext cx="1681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0" y="1849320"/>
            <a:ext cx="4559400" cy="310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jemplo. Consumo mensual promedio de electr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25800" y="1530360"/>
            <a:ext cx="4892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51120" y="1846440"/>
            <a:ext cx="543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46160" y="1851120"/>
            <a:ext cx="5251680" cy="3155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19676400">
            <a:off x="4419720" y="2895480"/>
            <a:ext cx="144756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35000" y="1530360"/>
            <a:ext cx="5272200" cy="379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31080" y="3819600"/>
            <a:ext cx="685800" cy="392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20840" y="1905120"/>
            <a:ext cx="4942080" cy="3294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jemplo. Unidades de vivienda en 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5337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28760" y="1905120"/>
            <a:ext cx="4934160" cy="3289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52280" y="287280"/>
            <a:ext cx="2198880" cy="146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36840" y="457200"/>
            <a:ext cx="139680" cy="1104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287280"/>
            <a:ext cx="2198880" cy="1465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36840" y="457200"/>
            <a:ext cx="139680" cy="1104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35240" y="1905120"/>
            <a:ext cx="49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28760" y="1892160"/>
            <a:ext cx="4934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28760" y="1892160"/>
            <a:ext cx="4934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287280"/>
            <a:ext cx="2198880" cy="146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457200"/>
            <a:ext cx="216000" cy="1104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35240" y="1905120"/>
            <a:ext cx="49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280" y="287280"/>
            <a:ext cx="2198880" cy="146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14400" y="457200"/>
            <a:ext cx="216000" cy="1104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35240" y="1905120"/>
            <a:ext cx="49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9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28760" y="1892160"/>
            <a:ext cx="4934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770360" y="2146320"/>
            <a:ext cx="3840120" cy="2560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9600" y="2133720"/>
            <a:ext cx="3840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79480" y="1862280"/>
            <a:ext cx="55674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06560" y="1562040"/>
            <a:ext cx="3530880" cy="3759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4648320"/>
            <a:ext cx="2057400" cy="152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133524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sidera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14680" y="2270160"/>
            <a:ext cx="56005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La variabilidad en le proceso de acumulación a lo largo de los años puede representar un inconven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3052800"/>
            <a:ext cx="560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1001"/>
              </a:spcBef>
              <a:spcAft>
                <a:spcPts val="99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La técnica se originó a partir de casos con series cortas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8480" y="3637080"/>
            <a:ext cx="56008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Podría plantearse el problema de seleccionar T, el número de años para alimentar el algorit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4481640"/>
            <a:ext cx="56005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Como primera aproximación se consideró el caso de producir pronóstico en Junio para el total del a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19320" y="457200"/>
            <a:ext cx="3181320" cy="2835360"/>
            <a:chOff x="1219320" y="457200"/>
            <a:chExt cx="3181320" cy="28353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219320" y="838080"/>
              <a:ext cx="318132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600200" y="457200"/>
              <a:ext cx="24382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Student con 1 grado de libert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19680" y="457200"/>
            <a:ext cx="3181320" cy="2835360"/>
            <a:chOff x="4819680" y="457200"/>
            <a:chExt cx="3181320" cy="283536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4819680" y="838080"/>
              <a:ext cx="318132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181480" y="457200"/>
              <a:ext cx="2438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Student con 2 grados de libert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38400" y="3581280"/>
            <a:ext cx="3181320" cy="2821680"/>
            <a:chOff x="1238400" y="3581280"/>
            <a:chExt cx="3181320" cy="282168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1238400" y="3581280"/>
              <a:ext cx="318132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600200" y="6135840"/>
              <a:ext cx="24382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Student con 4 grados de libert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19680" y="3565440"/>
            <a:ext cx="3181320" cy="2837520"/>
            <a:chOff x="4819680" y="3565440"/>
            <a:chExt cx="3181320" cy="283752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4819680" y="3565440"/>
              <a:ext cx="318132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105520" y="6135840"/>
              <a:ext cx="24382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Student con 5 grados de libert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284120" y="1641600"/>
            <a:ext cx="7554960" cy="4303800"/>
            <a:chOff x="1284120" y="1641600"/>
            <a:chExt cx="7554960" cy="4303800"/>
          </a:xfrm>
        </p:grpSpPr>
        <p:grpSp>
          <p:nvGrpSpPr>
            <p:cNvPr id="254" name=""/>
            <p:cNvGrpSpPr/>
            <p:nvPr/>
          </p:nvGrpSpPr>
          <p:grpSpPr>
            <a:xfrm>
              <a:off x="6477120" y="5257800"/>
              <a:ext cx="2361960" cy="276480"/>
              <a:chOff x="6477120" y="5257800"/>
              <a:chExt cx="2361960" cy="276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477120" y="525780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Serie Obser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53080" y="541008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477120" y="4876920"/>
              <a:ext cx="2361960" cy="276480"/>
              <a:chOff x="6477120" y="4876920"/>
              <a:chExt cx="2361960" cy="276480"/>
            </a:xfrm>
          </p:grpSpPr>
          <p:sp>
            <p:nvSpPr>
              <p:cNvPr id="258" name=""/>
              <p:cNvSpPr/>
              <p:nvPr/>
            </p:nvSpPr>
            <p:spPr>
              <a:xfrm>
                <a:off x="6477120" y="487692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Bandas de predicción 0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553080" y="5029200"/>
                <a:ext cx="15264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1284120" y="1641600"/>
              <a:ext cx="6575760" cy="266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"/>
            <p:cNvGrpSpPr/>
            <p:nvPr/>
          </p:nvGrpSpPr>
          <p:grpSpPr>
            <a:xfrm>
              <a:off x="6477120" y="5668920"/>
              <a:ext cx="2361960" cy="276480"/>
              <a:chOff x="6477120" y="5668920"/>
              <a:chExt cx="2361960" cy="276480"/>
            </a:xfrm>
          </p:grpSpPr>
          <p:sp>
            <p:nvSpPr>
              <p:cNvPr id="262" name=""/>
              <p:cNvSpPr/>
              <p:nvPr/>
            </p:nvSpPr>
            <p:spPr>
              <a:xfrm>
                <a:off x="6477120" y="566892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ff0000"/>
                    </a:solidFill>
                    <a:latin typeface="Arial"/>
                  </a:rPr>
                  <a:t>Pronóstico pun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565680" y="5816520"/>
                <a:ext cx="152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una ventana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óvil de 5 años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258920" y="1668600"/>
            <a:ext cx="7580160" cy="4276800"/>
            <a:chOff x="1258920" y="1668600"/>
            <a:chExt cx="7580160" cy="4276800"/>
          </a:xfrm>
        </p:grpSpPr>
        <p:grpSp>
          <p:nvGrpSpPr>
            <p:cNvPr id="266" name=""/>
            <p:cNvGrpSpPr/>
            <p:nvPr/>
          </p:nvGrpSpPr>
          <p:grpSpPr>
            <a:xfrm>
              <a:off x="6477120" y="5257800"/>
              <a:ext cx="2361960" cy="276480"/>
              <a:chOff x="6477120" y="5257800"/>
              <a:chExt cx="2361960" cy="276480"/>
            </a:xfrm>
          </p:grpSpPr>
          <p:sp>
            <p:nvSpPr>
              <p:cNvPr id="267" name=""/>
              <p:cNvSpPr/>
              <p:nvPr/>
            </p:nvSpPr>
            <p:spPr>
              <a:xfrm>
                <a:off x="6477120" y="525780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Serie Obser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553080" y="541008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477120" y="4876920"/>
              <a:ext cx="2361960" cy="276480"/>
              <a:chOff x="6477120" y="4876920"/>
              <a:chExt cx="2361960" cy="276480"/>
            </a:xfrm>
          </p:grpSpPr>
          <p:sp>
            <p:nvSpPr>
              <p:cNvPr id="270" name=""/>
              <p:cNvSpPr/>
              <p:nvPr/>
            </p:nvSpPr>
            <p:spPr>
              <a:xfrm>
                <a:off x="6477120" y="487692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Bandas de predicción 0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553080" y="5029200"/>
                <a:ext cx="15264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477120" y="5668920"/>
              <a:ext cx="2361960" cy="276480"/>
              <a:chOff x="6477120" y="5668920"/>
              <a:chExt cx="2361960" cy="276480"/>
            </a:xfrm>
          </p:grpSpPr>
          <p:sp>
            <p:nvSpPr>
              <p:cNvPr id="273" name=""/>
              <p:cNvSpPr/>
              <p:nvPr/>
            </p:nvSpPr>
            <p:spPr>
              <a:xfrm>
                <a:off x="6477120" y="5668920"/>
                <a:ext cx="2361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    </a:t>
                </a:r>
                <a:r>
                  <a:rPr b="0" lang="es-MX" sz="1200" spc="-1" strike="noStrike">
                    <a:solidFill>
                      <a:srgbClr val="ff0000"/>
                    </a:solidFill>
                    <a:latin typeface="Arial"/>
                  </a:rPr>
                  <a:t>Pronóstico pun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565680" y="5816520"/>
                <a:ext cx="152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1258920" y="1668600"/>
              <a:ext cx="6589800" cy="26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1447920" y="1143000"/>
            <a:ext cx="5371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una ventana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óvil de 5 años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99"/>
                </a:solidFill>
                <a:latin typeface="Arial (W1)"/>
              </a:rPr>
              <a:t>Coment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97000" y="1600200"/>
            <a:ext cx="6777000" cy="3621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26920" y="692280"/>
            <a:ext cx="3962520" cy="5331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06560" y="1562040"/>
            <a:ext cx="3530880" cy="3759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3251160"/>
            <a:ext cx="2057400" cy="152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06560" y="1562040"/>
            <a:ext cx="3530880" cy="3759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5320" y="4191120"/>
            <a:ext cx="2057400" cy="152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43280" y="1854360"/>
            <a:ext cx="5265720" cy="318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914400"/>
            <a:ext cx="4721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buClr>
                <a:srgbClr val="cc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rie mensual de turistas extranjeros en M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7:34Z</dcterms:created>
  <dc:creator>ITAM</dc:creator>
  <dc:description/>
  <dc:language>en-US</dc:language>
  <cp:lastModifiedBy>mmendozar</cp:lastModifiedBy>
  <dcterms:modified xsi:type="dcterms:W3CDTF">2011-12-04T01:32:35Z</dcterms:modified>
  <cp:revision>999</cp:revision>
  <dc:subject/>
  <dc:title>Análisis de Solvencia.  La perspectiva Estadística</dc:title>
</cp:coreProperties>
</file>