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79B4-6297-49F5-B9D0-0B688528F79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1094-BF57-4945-8143-DADC51E775D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591A-028F-4960-AF8C-F51E756CD8A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4C47-26AC-4E05-B2B6-AAF82117BD0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B44-39D3-4DE6-BE78-70E45906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C649-E5B8-4E74-A735-81B3F020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DEAC-F0B1-46C4-88D0-2694A750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A61-11B9-4D02-874E-1D6ACE4F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231-5EED-43EC-963D-DF5461FD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995-D1AC-4776-BCEF-90D56EDC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4998-52D0-4E66-95E9-5506FBA5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0D84-5D05-45EA-BBE6-0707ADFC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0C5D-CAD1-4F7A-A6F8-906EEFA5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997-3A6B-45B4-A2A2-222EA3CE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7509-0C40-44A1-B41C-B1735BBC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692-0357-4FFA-AC6F-5CB280D9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6107-ED63-4EE5-9E0E-0737CF7C7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9960" y="1842840"/>
            <a:ext cx="72388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jemp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258920" y="2813040"/>
            <a:ext cx="6649920" cy="39600"/>
          </a:xfrm>
          <a:prstGeom prst="rect">
            <a:avLst/>
          </a:prstGeom>
          <a:solidFill>
            <a:srgbClr val="808000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827440" y="3344760"/>
            <a:ext cx="3510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anuel Mendoza 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989440" y="3733920"/>
            <a:ext cx="3174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Departamento de Estad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Instituto Tecnológico Autónomo de Mé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181160" y="5867280"/>
            <a:ext cx="678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Escuela de Verano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Centro de Estadística Aplicada a Estudios Socioeconómicos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Medellín, Colombia. Diciembre 5-7, 20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763640" y="1989000"/>
            <a:ext cx="5599080" cy="3926160"/>
            <a:chOff x="1763640" y="1989000"/>
            <a:chExt cx="5599080" cy="3926160"/>
          </a:xfrm>
        </p:grpSpPr>
        <p:grpSp>
          <p:nvGrpSpPr>
            <p:cNvPr id="74" name=""/>
            <p:cNvGrpSpPr/>
            <p:nvPr/>
          </p:nvGrpSpPr>
          <p:grpSpPr>
            <a:xfrm>
              <a:off x="1763640" y="1989000"/>
              <a:ext cx="5550120" cy="3922920"/>
              <a:chOff x="1763640" y="1989000"/>
              <a:chExt cx="5550120" cy="3922920"/>
            </a:xfrm>
          </p:grpSpPr>
          <p:pic>
            <p:nvPicPr>
              <p:cNvPr id="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3640" y="1989000"/>
                <a:ext cx="5550120" cy="131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770120" y="3284280"/>
                <a:ext cx="5538600" cy="2627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" name=""/>
            <p:cNvSpPr/>
            <p:nvPr/>
          </p:nvSpPr>
          <p:spPr>
            <a:xfrm>
              <a:off x="1763640" y="1989000"/>
              <a:ext cx="5599080" cy="3926160"/>
            </a:xfrm>
            <a:prstGeom prst="rect">
              <a:avLst/>
            </a:pr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Regresión diná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Regresión diná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124000" y="2060640"/>
            <a:ext cx="5416560" cy="3058920"/>
            <a:chOff x="2124000" y="2060640"/>
            <a:chExt cx="5416560" cy="3058920"/>
          </a:xfrm>
        </p:grpSpPr>
        <p:grpSp>
          <p:nvGrpSpPr>
            <p:cNvPr id="81" name=""/>
            <p:cNvGrpSpPr/>
            <p:nvPr/>
          </p:nvGrpSpPr>
          <p:grpSpPr>
            <a:xfrm>
              <a:off x="2138400" y="2060640"/>
              <a:ext cx="5402160" cy="3058920"/>
              <a:chOff x="2138400" y="2060640"/>
              <a:chExt cx="5402160" cy="3058920"/>
            </a:xfrm>
          </p:grpSpPr>
          <p:pic>
            <p:nvPicPr>
              <p:cNvPr id="8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143080" y="2060640"/>
                <a:ext cx="5394240" cy="86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138400" y="2924280"/>
                <a:ext cx="5402160" cy="9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143080" y="3860640"/>
                <a:ext cx="5394240" cy="125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" name=""/>
            <p:cNvSpPr/>
            <p:nvPr/>
          </p:nvSpPr>
          <p:spPr>
            <a:xfrm>
              <a:off x="2124000" y="2060640"/>
              <a:ext cx="5399280" cy="30510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Regresión diná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24000" y="2276640"/>
            <a:ext cx="5592960" cy="336204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Regresión diná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624640" cy="2552760"/>
          </a:xfrm>
          <a:prstGeom prst="rect">
            <a:avLst/>
          </a:prstGeom>
          <a:ln w="2232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Regresión diná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40000" y="2492280"/>
            <a:ext cx="5664240" cy="2325960"/>
            <a:chOff x="2340000" y="2492280"/>
            <a:chExt cx="5664240" cy="2325960"/>
          </a:xfrm>
        </p:grpSpPr>
        <p:grpSp>
          <p:nvGrpSpPr>
            <p:cNvPr id="92" name=""/>
            <p:cNvGrpSpPr/>
            <p:nvPr/>
          </p:nvGrpSpPr>
          <p:grpSpPr>
            <a:xfrm>
              <a:off x="2340000" y="2492280"/>
              <a:ext cx="5664240" cy="2325960"/>
              <a:chOff x="2340000" y="2492280"/>
              <a:chExt cx="5664240" cy="2325960"/>
            </a:xfrm>
          </p:grpSpPr>
          <p:pic>
            <p:nvPicPr>
              <p:cNvPr id="9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0000" y="2492280"/>
                <a:ext cx="566100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0000" y="2852640"/>
                <a:ext cx="5664240" cy="1965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" name=""/>
            <p:cNvSpPr/>
            <p:nvPr/>
          </p:nvSpPr>
          <p:spPr>
            <a:xfrm>
              <a:off x="2340000" y="2492280"/>
              <a:ext cx="5632560" cy="2306880"/>
            </a:xfrm>
            <a:prstGeom prst="rect">
              <a:avLst/>
            </a:prstGeom>
            <a:noFill/>
            <a:ln w="22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Regresión diná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195640" y="2205000"/>
            <a:ext cx="5484600" cy="3282840"/>
            <a:chOff x="2195640" y="2205000"/>
            <a:chExt cx="5484600" cy="3282840"/>
          </a:xfrm>
        </p:grpSpPr>
        <p:grpSp>
          <p:nvGrpSpPr>
            <p:cNvPr id="98" name=""/>
            <p:cNvGrpSpPr/>
            <p:nvPr/>
          </p:nvGrpSpPr>
          <p:grpSpPr>
            <a:xfrm>
              <a:off x="2195640" y="2205000"/>
              <a:ext cx="5484600" cy="3282840"/>
              <a:chOff x="2195640" y="2205000"/>
              <a:chExt cx="5484600" cy="3282840"/>
            </a:xfrm>
          </p:grpSpPr>
          <p:pic>
            <p:nvPicPr>
              <p:cNvPr id="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195640" y="2205000"/>
                <a:ext cx="5484600" cy="94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00320" y="3093840"/>
                <a:ext cx="5477040" cy="2394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" name=""/>
            <p:cNvSpPr/>
            <p:nvPr/>
          </p:nvSpPr>
          <p:spPr>
            <a:xfrm>
              <a:off x="2195640" y="2205000"/>
              <a:ext cx="5471640" cy="3278160"/>
            </a:xfrm>
            <a:prstGeom prst="rect">
              <a:avLst/>
            </a:prstGeom>
            <a:noFill/>
            <a:ln w="2232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Regresión diná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5743440" cy="121428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Coment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97000" y="1600200"/>
            <a:ext cx="6777000" cy="3621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26920" y="692280"/>
            <a:ext cx="3962520" cy="53316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333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9960" y="2278080"/>
            <a:ext cx="72388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</a:rPr>
              <a:t>Regresión Dinámica en Fin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3236760"/>
            <a:ext cx="6649920" cy="39960"/>
          </a:xfrm>
          <a:prstGeom prst="rect">
            <a:avLst/>
          </a:prstGeom>
          <a:solidFill>
            <a:srgbClr val="808000"/>
          </a:solidFill>
          <a:ln w="0">
            <a:noFill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Regresión (dinámica) en Finan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4019760" cy="32860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Regresión diná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649840" cy="4395960"/>
          </a:xfrm>
          <a:prstGeom prst="rect">
            <a:avLst/>
          </a:prstGeom>
          <a:ln w="22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Regresión diná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0920" y="2421000"/>
            <a:ext cx="5585040" cy="26193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Regresión diná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2085840"/>
            <a:ext cx="5791320" cy="328788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Regresión diná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388120" cy="2616120"/>
          </a:xfrm>
          <a:prstGeom prst="rect">
            <a:avLst/>
          </a:prstGeom>
          <a:ln w="1908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Regresión diná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707080" cy="2955600"/>
          </a:xfrm>
          <a:prstGeom prst="rect">
            <a:avLst/>
          </a:prstGeom>
          <a:ln w="22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1066680"/>
            <a:ext cx="3962520" cy="53352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Regresión diná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47640" y="2271600"/>
            <a:ext cx="5761080" cy="2813040"/>
            <a:chOff x="1547640" y="2271600"/>
            <a:chExt cx="5761080" cy="2813040"/>
          </a:xfrm>
        </p:grpSpPr>
        <p:grpSp>
          <p:nvGrpSpPr>
            <p:cNvPr id="69" name=""/>
            <p:cNvGrpSpPr/>
            <p:nvPr/>
          </p:nvGrpSpPr>
          <p:grpSpPr>
            <a:xfrm>
              <a:off x="1547640" y="2271600"/>
              <a:ext cx="5754960" cy="2813040"/>
              <a:chOff x="1547640" y="2271600"/>
              <a:chExt cx="5754960" cy="2813040"/>
            </a:xfrm>
          </p:grpSpPr>
          <p:pic>
            <p:nvPicPr>
              <p:cNvPr id="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47640" y="2271600"/>
                <a:ext cx="5747040" cy="128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2"/>
              <a:srcRect l="0" t="4880" r="0" b="0"/>
              <a:stretch/>
            </p:blipFill>
            <p:spPr>
              <a:xfrm>
                <a:off x="1547640" y="3245040"/>
                <a:ext cx="5754960" cy="1839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" name=""/>
            <p:cNvSpPr/>
            <p:nvPr/>
          </p:nvSpPr>
          <p:spPr>
            <a:xfrm>
              <a:off x="1547640" y="2271600"/>
              <a:ext cx="5761080" cy="2808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22:17:34Z</dcterms:created>
  <dc:creator>ITAM</dc:creator>
  <dc:description/>
  <dc:language>en-US</dc:language>
  <cp:lastModifiedBy>mmendozar</cp:lastModifiedBy>
  <dcterms:modified xsi:type="dcterms:W3CDTF">2011-12-04T01:32:45Z</dcterms:modified>
  <cp:revision>998</cp:revision>
  <dc:subject/>
  <dc:title>Análisis de Solvencia.  La perspectiva Estadística</dc:title>
</cp:coreProperties>
</file>